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572-DC15-4965-B5EE-2247F607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8BE-2B25-4DA1-A7C6-E3180D34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30F-3BCE-45C2-95D8-E68609DD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5DB-67AA-41DE-8051-56656F4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BF184-E8AC-42EA-B95A-AFD1810FF4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1FCA9-BBBA-4743-91BF-91696E4F4D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28140-0968-4787-A519-FFEF6DBFB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6E717-D3F3-4266-8AC2-A09E3F094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4676-B27E-4BD3-A7C0-998D529EAE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359F1-D808-4198-B6D4-2C28CFC4E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0AC8E-407E-4DB3-A407-D50D1C743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090-3470-4C93-AD78-EE133FC5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CEA79-C3CD-45CD-9E77-91F6317A7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5EDF-7E2B-4761-B8F2-0AFF5C5AA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F30AF-37C9-4902-97A5-D67E8C6789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2F68E-7732-453C-99BC-5342C73E5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19B3-532F-40A2-8BEC-29EDD021C3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A40-61A9-455F-8AC4-0061711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9D0-8E1F-4C99-A5E7-BF3A94D7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7C8-B6BA-4A8E-9AED-90464AB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372-605A-4E65-A39B-EC10E7C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2A0-AD8B-4132-8185-BF2EED4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55-508F-4D30-B17F-CF82EB9A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09E-0513-4FD9-BEBF-82E98DF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71F-57E6-4415-9844-B3A12FFE53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76A-F507-42CE-8684-EFD0115F4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9F4-6FDE-4589-8FC8-2D86AC2695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359080" y="3159000"/>
            <a:ext cx="660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U.S. Economy: Private and Public Se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241880" y="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-Ag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disadvantage of corpo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holders are princip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cutives are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f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F9069F9-E279-4C00-AC37-B67DA08D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1" dur="1" fill="hold"/>
                                  <p:tgtEl>
                                    <p:spTgt spid="2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4920" y="1328400"/>
            <a:ext cx="7086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, state, and local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the government in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6AD6E48-1968-4EDE-8F9F-6AE63E87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90360" y="127764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the leg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the laws we live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ain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oly and antitrust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stribute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er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inter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C8E97D5-4FE8-4897-BEF3-3263487E0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2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02960" y="1520640"/>
            <a:ext cx="7086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locating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fail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exter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exter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357A1EF-1CCE-4612-8407-3C0444F8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8" dur="1" fill="hold"/>
                                  <p:tgtEl>
                                    <p:spTgt spid="2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ng for 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17080" y="125244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ve exter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provision of goo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F7A1078-F5AC-4806-B85B-86B32E4C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24920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va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val and excl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r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excl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-rider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si-public goo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lloc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2A6A3BB-AABA-4FBE-AE75-239052A1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8" dur="1" fill="hold"/>
                                  <p:tgtEl>
                                    <p:spTgt spid="22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68200" y="123660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ng 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al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 much or too little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fficien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4D378DD-7E68-4097-9A98-DA850A8E7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4" dur="1" fill="hold"/>
                                  <p:tgtEl>
                                    <p:spTgt spid="2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977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r Flow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2039760" y="1393920"/>
            <a:ext cx="6640200" cy="4471560"/>
            <a:chOff x="2039760" y="1393920"/>
            <a:chExt cx="6640200" cy="4471560"/>
          </a:xfrm>
        </p:grpSpPr>
        <p:sp>
          <p:nvSpPr>
            <p:cNvPr id="231" name="AutoShape 6"/>
            <p:cNvSpPr/>
            <p:nvPr/>
          </p:nvSpPr>
          <p:spPr>
            <a:xfrm>
              <a:off x="2230200" y="157320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"/>
            <p:cNvGrpSpPr/>
            <p:nvPr/>
          </p:nvGrpSpPr>
          <p:grpSpPr>
            <a:xfrm>
              <a:off x="4496760" y="1393920"/>
              <a:ext cx="360720" cy="358560"/>
              <a:chOff x="4496760" y="1393920"/>
              <a:chExt cx="360720" cy="358560"/>
            </a:xfrm>
          </p:grpSpPr>
          <p:sp>
            <p:nvSpPr>
              <p:cNvPr id="233" name="Rectangle 8"/>
              <p:cNvSpPr/>
              <p:nvPr/>
            </p:nvSpPr>
            <p:spPr>
              <a:xfrm>
                <a:off x="4506480" y="139860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9"/>
              <p:cNvSpPr/>
              <p:nvPr/>
            </p:nvSpPr>
            <p:spPr>
              <a:xfrm rot="5400000">
                <a:off x="4425120" y="146520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0"/>
            <p:cNvGrpSpPr/>
            <p:nvPr/>
          </p:nvGrpSpPr>
          <p:grpSpPr>
            <a:xfrm>
              <a:off x="2039760" y="4016160"/>
              <a:ext cx="369360" cy="311040"/>
              <a:chOff x="2039760" y="4016160"/>
              <a:chExt cx="369360" cy="31104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039760" y="40161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12"/>
              <p:cNvSpPr/>
              <p:nvPr/>
            </p:nvSpPr>
            <p:spPr>
              <a:xfrm>
                <a:off x="2050560" y="41115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3"/>
            <p:cNvGrpSpPr/>
            <p:nvPr/>
          </p:nvGrpSpPr>
          <p:grpSpPr>
            <a:xfrm>
              <a:off x="8307360" y="2938320"/>
              <a:ext cx="372600" cy="304920"/>
              <a:chOff x="8307360" y="2938320"/>
              <a:chExt cx="372600" cy="304920"/>
            </a:xfrm>
          </p:grpSpPr>
          <p:sp>
            <p:nvSpPr>
              <p:cNvPr id="239" name="Rectangle 14"/>
              <p:cNvSpPr/>
              <p:nvPr/>
            </p:nvSpPr>
            <p:spPr>
              <a:xfrm>
                <a:off x="8329320" y="294480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5"/>
              <p:cNvSpPr/>
              <p:nvPr/>
            </p:nvSpPr>
            <p:spPr>
              <a:xfrm rot="10800000">
                <a:off x="8307360" y="293832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6"/>
            <p:cNvGrpSpPr/>
            <p:nvPr/>
          </p:nvGrpSpPr>
          <p:grpSpPr>
            <a:xfrm>
              <a:off x="5868720" y="5506920"/>
              <a:ext cx="357120" cy="358560"/>
              <a:chOff x="5868720" y="5506920"/>
              <a:chExt cx="357120" cy="358560"/>
            </a:xfrm>
          </p:grpSpPr>
          <p:sp>
            <p:nvSpPr>
              <p:cNvPr id="242" name="Rectangle 17"/>
              <p:cNvSpPr/>
              <p:nvPr/>
            </p:nvSpPr>
            <p:spPr>
              <a:xfrm>
                <a:off x="5868720" y="5555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18"/>
              <p:cNvSpPr/>
              <p:nvPr/>
            </p:nvSpPr>
            <p:spPr>
              <a:xfrm rot="16200000">
                <a:off x="5938560" y="557820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19"/>
          <p:cNvGrpSpPr/>
          <p:nvPr/>
        </p:nvGrpSpPr>
        <p:grpSpPr>
          <a:xfrm>
            <a:off x="2426760" y="1775880"/>
            <a:ext cx="5856480" cy="3799080"/>
            <a:chOff x="2426760" y="1775880"/>
            <a:chExt cx="5856480" cy="3799080"/>
          </a:xfrm>
        </p:grpSpPr>
        <p:sp>
          <p:nvSpPr>
            <p:cNvPr id="245" name="AutoShape 20"/>
            <p:cNvSpPr/>
            <p:nvPr/>
          </p:nvSpPr>
          <p:spPr>
            <a:xfrm>
              <a:off x="2604960" y="1905120"/>
              <a:ext cx="5506920" cy="345600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21"/>
            <p:cNvGrpSpPr/>
            <p:nvPr/>
          </p:nvGrpSpPr>
          <p:grpSpPr>
            <a:xfrm>
              <a:off x="2426760" y="2974680"/>
              <a:ext cx="368640" cy="311040"/>
              <a:chOff x="2426760" y="2974680"/>
              <a:chExt cx="368640" cy="311040"/>
            </a:xfrm>
          </p:grpSpPr>
          <p:sp>
            <p:nvSpPr>
              <p:cNvPr id="247" name="Rectangle 22"/>
              <p:cNvSpPr/>
              <p:nvPr/>
            </p:nvSpPr>
            <p:spPr>
              <a:xfrm>
                <a:off x="2444400" y="29876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23"/>
              <p:cNvSpPr/>
              <p:nvPr/>
            </p:nvSpPr>
            <p:spPr>
              <a:xfrm rot="10800000">
                <a:off x="2426760" y="29746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4"/>
            <p:cNvGrpSpPr/>
            <p:nvPr/>
          </p:nvGrpSpPr>
          <p:grpSpPr>
            <a:xfrm>
              <a:off x="7920000" y="4051440"/>
              <a:ext cx="363240" cy="309600"/>
              <a:chOff x="7920000" y="4051440"/>
              <a:chExt cx="363240" cy="309600"/>
            </a:xfrm>
          </p:grpSpPr>
          <p:sp>
            <p:nvSpPr>
              <p:cNvPr id="250" name="Rectangle 25"/>
              <p:cNvSpPr/>
              <p:nvPr/>
            </p:nvSpPr>
            <p:spPr>
              <a:xfrm>
                <a:off x="7920000" y="40514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26"/>
              <p:cNvSpPr/>
              <p:nvPr/>
            </p:nvSpPr>
            <p:spPr>
              <a:xfrm>
                <a:off x="7924680" y="41450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5862600" y="1775880"/>
              <a:ext cx="360360" cy="358920"/>
              <a:chOff x="5862600" y="1775880"/>
              <a:chExt cx="360360" cy="35892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5862600" y="17812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29"/>
              <p:cNvSpPr/>
              <p:nvPr/>
            </p:nvSpPr>
            <p:spPr>
              <a:xfrm rot="16200000">
                <a:off x="5935320" y="18471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0"/>
            <p:cNvGrpSpPr/>
            <p:nvPr/>
          </p:nvGrpSpPr>
          <p:grpSpPr>
            <a:xfrm>
              <a:off x="4490640" y="5216400"/>
              <a:ext cx="355320" cy="358560"/>
              <a:chOff x="4490640" y="5216400"/>
              <a:chExt cx="355320" cy="358560"/>
            </a:xfrm>
          </p:grpSpPr>
          <p:sp>
            <p:nvSpPr>
              <p:cNvPr id="256" name="Rectangle 31"/>
              <p:cNvSpPr/>
              <p:nvPr/>
            </p:nvSpPr>
            <p:spPr>
              <a:xfrm>
                <a:off x="4495320" y="5263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32"/>
              <p:cNvSpPr/>
              <p:nvPr/>
            </p:nvSpPr>
            <p:spPr>
              <a:xfrm rot="5400000">
                <a:off x="4419000" y="52876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33"/>
          <p:cNvSpPr/>
          <p:nvPr/>
        </p:nvSpPr>
        <p:spPr>
          <a:xfrm>
            <a:off x="4711680" y="1285920"/>
            <a:ext cx="1293840" cy="966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4711680" y="5079960"/>
            <a:ext cx="1293840" cy="966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1704960" y="3187800"/>
            <a:ext cx="12938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7540560" y="3187800"/>
            <a:ext cx="13352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7"/>
          <p:cNvSpPr txBox="1"/>
          <p:nvPr/>
        </p:nvSpPr>
        <p:spPr>
          <a:xfrm rot="19236000">
            <a:off x="2023920" y="15696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3" name="WordArt 38"/>
          <p:cNvSpPr txBox="1"/>
          <p:nvPr/>
        </p:nvSpPr>
        <p:spPr>
          <a:xfrm rot="1800000">
            <a:off x="7167600" y="1485720"/>
            <a:ext cx="179064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4" name="WordArt 39"/>
          <p:cNvSpPr txBox="1"/>
          <p:nvPr/>
        </p:nvSpPr>
        <p:spPr>
          <a:xfrm rot="2216400">
            <a:off x="6555960" y="22636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5" name="WordArt 40"/>
          <p:cNvSpPr txBox="1"/>
          <p:nvPr/>
        </p:nvSpPr>
        <p:spPr>
          <a:xfrm rot="19236000">
            <a:off x="2771280" y="23191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41"/>
          <p:cNvSpPr txBox="1"/>
          <p:nvPr/>
        </p:nvSpPr>
        <p:spPr>
          <a:xfrm rot="1800000">
            <a:off x="2690280" y="45367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42"/>
          <p:cNvSpPr txBox="1"/>
          <p:nvPr/>
        </p:nvSpPr>
        <p:spPr>
          <a:xfrm rot="1800000">
            <a:off x="1923840" y="5637240"/>
            <a:ext cx="1274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43"/>
          <p:cNvSpPr txBox="1"/>
          <p:nvPr/>
        </p:nvSpPr>
        <p:spPr>
          <a:xfrm rot="19921200">
            <a:off x="6546960" y="4525560"/>
            <a:ext cx="14475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9" name="WordArt 44"/>
          <p:cNvSpPr txBox="1"/>
          <p:nvPr/>
        </p:nvSpPr>
        <p:spPr>
          <a:xfrm rot="19921200">
            <a:off x="7419960" y="5589720"/>
            <a:ext cx="144792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4653000" y="3187800"/>
            <a:ext cx="14270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6"/>
          <p:cNvSpPr/>
          <p:nvPr/>
        </p:nvSpPr>
        <p:spPr>
          <a:xfrm>
            <a:off x="3017880" y="3747960"/>
            <a:ext cx="1606680" cy="370080"/>
          </a:xfrm>
          <a:prstGeom prst="rightArrow">
            <a:avLst>
              <a:gd name="adj1" fmla="val 65667"/>
              <a:gd name="adj2" fmla="val 63574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7"/>
          <p:cNvSpPr/>
          <p:nvPr/>
        </p:nvSpPr>
        <p:spPr>
          <a:xfrm flipH="1">
            <a:off x="6103800" y="3747960"/>
            <a:ext cx="1416240" cy="370080"/>
          </a:xfrm>
          <a:prstGeom prst="rightArrow">
            <a:avLst>
              <a:gd name="adj1" fmla="val 65667"/>
              <a:gd name="adj2" fmla="val 56038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flipH="1">
            <a:off x="3025080" y="3233880"/>
            <a:ext cx="1600200" cy="369720"/>
          </a:xfrm>
          <a:prstGeom prst="rightArrow">
            <a:avLst>
              <a:gd name="adj1" fmla="val 65667"/>
              <a:gd name="adj2" fmla="val 63379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>
            <a:off x="6102360" y="3233880"/>
            <a:ext cx="1406520" cy="369720"/>
          </a:xfrm>
          <a:prstGeom prst="rightArrow">
            <a:avLst>
              <a:gd name="adj1" fmla="val 65667"/>
              <a:gd name="adj2" fmla="val 55708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0"/>
          <p:cNvSpPr/>
          <p:nvPr/>
        </p:nvSpPr>
        <p:spPr>
          <a:xfrm rot="16200000">
            <a:off x="4708440" y="2530440"/>
            <a:ext cx="881280" cy="370080"/>
          </a:xfrm>
          <a:prstGeom prst="rightArrow">
            <a:avLst>
              <a:gd name="adj1" fmla="val 65667"/>
              <a:gd name="adj2" fmla="val 34871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1"/>
          <p:cNvSpPr/>
          <p:nvPr/>
        </p:nvSpPr>
        <p:spPr>
          <a:xfrm flipV="1" rot="5400000">
            <a:off x="4713120" y="4429440"/>
            <a:ext cx="871560" cy="370080"/>
          </a:xfrm>
          <a:prstGeom prst="rightArrow">
            <a:avLst>
              <a:gd name="adj1" fmla="val 65667"/>
              <a:gd name="adj2" fmla="val 34486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2"/>
          <p:cNvSpPr/>
          <p:nvPr/>
        </p:nvSpPr>
        <p:spPr>
          <a:xfrm rot="16200000">
            <a:off x="5177520" y="4426200"/>
            <a:ext cx="873000" cy="370080"/>
          </a:xfrm>
          <a:prstGeom prst="rightArrow">
            <a:avLst>
              <a:gd name="adj1" fmla="val 65667"/>
              <a:gd name="adj2" fmla="val 34543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3"/>
          <p:cNvSpPr/>
          <p:nvPr/>
        </p:nvSpPr>
        <p:spPr>
          <a:xfrm flipV="1" rot="5400000">
            <a:off x="5173560" y="2535120"/>
            <a:ext cx="881280" cy="370080"/>
          </a:xfrm>
          <a:prstGeom prst="rightArrow">
            <a:avLst>
              <a:gd name="adj1" fmla="val 65667"/>
              <a:gd name="adj2" fmla="val 34871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3297600" y="286704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6"/>
          <p:cNvSpPr/>
          <p:nvPr/>
        </p:nvSpPr>
        <p:spPr>
          <a:xfrm>
            <a:off x="6269400" y="286704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3264840" y="4048200"/>
            <a:ext cx="113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6236640" y="4048200"/>
            <a:ext cx="113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9"/>
          <p:cNvSpPr/>
          <p:nvPr/>
        </p:nvSpPr>
        <p:spPr>
          <a:xfrm>
            <a:off x="3608280" y="2484360"/>
            <a:ext cx="1463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0"/>
          <p:cNvSpPr/>
          <p:nvPr/>
        </p:nvSpPr>
        <p:spPr>
          <a:xfrm>
            <a:off x="3608280" y="4446720"/>
            <a:ext cx="1463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5669280" y="439092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2"/>
          <p:cNvSpPr/>
          <p:nvPr/>
        </p:nvSpPr>
        <p:spPr>
          <a:xfrm>
            <a:off x="5745240" y="248436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8147E74-AFB4-4388-81EA-AEC0FEA19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88480" y="1139400"/>
            <a:ext cx="70866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purc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transf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992320" y="2092320"/>
            <a:ext cx="4791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 rot="16200000">
            <a:off x="1479600" y="392616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of U.S.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054320" y="6195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6935760" y="6195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873600" y="3678120"/>
            <a:ext cx="995400" cy="244476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750000" y="4064040"/>
            <a:ext cx="995400" cy="20588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6750000" y="2800440"/>
            <a:ext cx="995400" cy="12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3873600" y="3254400"/>
            <a:ext cx="99540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027760" y="522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46840" y="2322360"/>
            <a:ext cx="15264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4861080" y="4807080"/>
            <a:ext cx="1879560" cy="411120"/>
            <a:chOff x="4861080" y="4807080"/>
            <a:chExt cx="1879560" cy="411120"/>
          </a:xfrm>
        </p:grpSpPr>
        <p:sp>
          <p:nvSpPr>
            <p:cNvPr id="301" name="Line 18"/>
            <p:cNvSpPr/>
            <p:nvPr/>
          </p:nvSpPr>
          <p:spPr>
            <a:xfrm flipV="1">
              <a:off x="5784840" y="48070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9"/>
            <p:cNvSpPr/>
            <p:nvPr/>
          </p:nvSpPr>
          <p:spPr>
            <a:xfrm flipH="1" flipV="1">
              <a:off x="4861080" y="4807080"/>
              <a:ext cx="95544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2"/>
          <p:cNvGrpSpPr/>
          <p:nvPr/>
        </p:nvGrpSpPr>
        <p:grpSpPr>
          <a:xfrm>
            <a:off x="4870080" y="3111480"/>
            <a:ext cx="1879920" cy="411120"/>
            <a:chOff x="4870080" y="3111480"/>
            <a:chExt cx="1879920" cy="411120"/>
          </a:xfrm>
        </p:grpSpPr>
        <p:sp>
          <p:nvSpPr>
            <p:cNvPr id="304" name="Line 20"/>
            <p:cNvSpPr/>
            <p:nvPr/>
          </p:nvSpPr>
          <p:spPr>
            <a:xfrm>
              <a:off x="5794200" y="31114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1"/>
            <p:cNvSpPr/>
            <p:nvPr/>
          </p:nvSpPr>
          <p:spPr>
            <a:xfrm flipH="1">
              <a:off x="4870080" y="31114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24"/>
          <p:cNvSpPr/>
          <p:nvPr/>
        </p:nvSpPr>
        <p:spPr>
          <a:xfrm>
            <a:off x="4042440" y="4727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134600" y="3279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6936480" y="481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977160" y="32036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4077360" y="2870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6993000" y="2448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70F5962-9A29-42C5-AC1B-EEF71A67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0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Re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1422360" y="2577960"/>
            <a:ext cx="220968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4273560" y="23004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4641480" y="6386400"/>
            <a:ext cx="42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Organization for Economic Coopera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6"/>
          <p:cNvSpPr/>
          <p:nvPr/>
        </p:nvSpPr>
        <p:spPr>
          <a:xfrm>
            <a:off x="3630600" y="2692440"/>
            <a:ext cx="4942080" cy="22860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630600" y="2978280"/>
            <a:ext cx="4802040" cy="209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8"/>
          <p:cNvSpPr/>
          <p:nvPr/>
        </p:nvSpPr>
        <p:spPr>
          <a:xfrm>
            <a:off x="3630600" y="3263760"/>
            <a:ext cx="4611600" cy="216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9"/>
          <p:cNvSpPr/>
          <p:nvPr/>
        </p:nvSpPr>
        <p:spPr>
          <a:xfrm>
            <a:off x="3630600" y="3549600"/>
            <a:ext cx="4624560" cy="20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630600" y="3835440"/>
            <a:ext cx="4294080" cy="21600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3630600" y="4121280"/>
            <a:ext cx="402588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2"/>
          <p:cNvSpPr/>
          <p:nvPr/>
        </p:nvSpPr>
        <p:spPr>
          <a:xfrm>
            <a:off x="3630600" y="4406760"/>
            <a:ext cx="39639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3"/>
          <p:cNvSpPr/>
          <p:nvPr/>
        </p:nvSpPr>
        <p:spPr>
          <a:xfrm>
            <a:off x="3630600" y="4692600"/>
            <a:ext cx="3633840" cy="23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4"/>
          <p:cNvSpPr/>
          <p:nvPr/>
        </p:nvSpPr>
        <p:spPr>
          <a:xfrm>
            <a:off x="3630600" y="4978440"/>
            <a:ext cx="3252960" cy="241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5"/>
          <p:cNvSpPr/>
          <p:nvPr/>
        </p:nvSpPr>
        <p:spPr>
          <a:xfrm>
            <a:off x="3630600" y="5264280"/>
            <a:ext cx="311328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6"/>
          <p:cNvSpPr/>
          <p:nvPr/>
        </p:nvSpPr>
        <p:spPr>
          <a:xfrm>
            <a:off x="3630600" y="5549760"/>
            <a:ext cx="294804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7"/>
          <p:cNvSpPr/>
          <p:nvPr/>
        </p:nvSpPr>
        <p:spPr>
          <a:xfrm>
            <a:off x="3630600" y="5835600"/>
            <a:ext cx="2859120" cy="235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5"/>
          <p:cNvGrpSpPr/>
          <p:nvPr/>
        </p:nvGrpSpPr>
        <p:grpSpPr>
          <a:xfrm>
            <a:off x="3606840" y="2610000"/>
            <a:ext cx="5219640" cy="3740040"/>
            <a:chOff x="3606840" y="2610000"/>
            <a:chExt cx="5219640" cy="3740040"/>
          </a:xfrm>
        </p:grpSpPr>
        <p:grpSp>
          <p:nvGrpSpPr>
            <p:cNvPr id="330" name="Group 47"/>
            <p:cNvGrpSpPr/>
            <p:nvPr/>
          </p:nvGrpSpPr>
          <p:grpSpPr>
            <a:xfrm>
              <a:off x="4498920" y="2610000"/>
              <a:ext cx="3657600" cy="3740040"/>
              <a:chOff x="4498920" y="2610000"/>
              <a:chExt cx="3657600" cy="3740040"/>
            </a:xfrm>
          </p:grpSpPr>
          <p:sp>
            <p:nvSpPr>
              <p:cNvPr id="331" name="Line 42"/>
              <p:cNvSpPr/>
              <p:nvPr/>
            </p:nvSpPr>
            <p:spPr>
              <a:xfrm>
                <a:off x="44989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3"/>
              <p:cNvSpPr/>
              <p:nvPr/>
            </p:nvSpPr>
            <p:spPr>
              <a:xfrm>
                <a:off x="54133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44"/>
              <p:cNvSpPr/>
              <p:nvPr/>
            </p:nvSpPr>
            <p:spPr>
              <a:xfrm>
                <a:off x="63277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45"/>
              <p:cNvSpPr/>
              <p:nvPr/>
            </p:nvSpPr>
            <p:spPr>
              <a:xfrm>
                <a:off x="72421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46"/>
              <p:cNvSpPr/>
              <p:nvPr/>
            </p:nvSpPr>
            <p:spPr>
              <a:xfrm>
                <a:off x="81565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Line 49"/>
            <p:cNvSpPr/>
            <p:nvPr/>
          </p:nvSpPr>
          <p:spPr>
            <a:xfrm>
              <a:off x="3622680" y="2610000"/>
              <a:ext cx="0" cy="374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4"/>
            <p:cNvSpPr/>
            <p:nvPr/>
          </p:nvSpPr>
          <p:spPr>
            <a:xfrm>
              <a:off x="3606840" y="261144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69"/>
          <p:cNvSpPr/>
          <p:nvPr/>
        </p:nvSpPr>
        <p:spPr>
          <a:xfrm>
            <a:off x="8519040" y="261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8417520" y="2879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1"/>
          <p:cNvSpPr/>
          <p:nvPr/>
        </p:nvSpPr>
        <p:spPr>
          <a:xfrm>
            <a:off x="829044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2"/>
          <p:cNvSpPr/>
          <p:nvPr/>
        </p:nvSpPr>
        <p:spPr>
          <a:xfrm>
            <a:off x="8315640" y="3489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3"/>
          <p:cNvSpPr/>
          <p:nvPr/>
        </p:nvSpPr>
        <p:spPr>
          <a:xfrm>
            <a:off x="7957080" y="377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4"/>
          <p:cNvSpPr/>
          <p:nvPr/>
        </p:nvSpPr>
        <p:spPr>
          <a:xfrm>
            <a:off x="7628400" y="40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5"/>
          <p:cNvSpPr/>
          <p:nvPr/>
        </p:nvSpPr>
        <p:spPr>
          <a:xfrm>
            <a:off x="7644240" y="43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6"/>
          <p:cNvSpPr/>
          <p:nvPr/>
        </p:nvSpPr>
        <p:spPr>
          <a:xfrm>
            <a:off x="7285320" y="460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6864840" y="493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8"/>
          <p:cNvSpPr/>
          <p:nvPr/>
        </p:nvSpPr>
        <p:spPr>
          <a:xfrm>
            <a:off x="6741000" y="5203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9"/>
          <p:cNvSpPr/>
          <p:nvPr/>
        </p:nvSpPr>
        <p:spPr>
          <a:xfrm>
            <a:off x="6613920" y="5489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0"/>
          <p:cNvSpPr/>
          <p:nvPr/>
        </p:nvSpPr>
        <p:spPr>
          <a:xfrm>
            <a:off x="6625080" y="5788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1168560" y="158760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Tax Revenue, Approximate Percentage of GDP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0"/>
          <p:cNvSpPr/>
          <p:nvPr/>
        </p:nvSpPr>
        <p:spPr>
          <a:xfrm>
            <a:off x="689616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1BCBA9E-7F65-462E-A231-7F45311A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9600" y="1317240"/>
            <a:ext cx="8001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household and  business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rporate form of business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 agen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conomic role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spending and sources of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3F25412-3874-442B-A88B-EF3C06C00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Expendi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96280" y="165564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658880" y="2190600"/>
            <a:ext cx="23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sions 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714760" y="3298680"/>
            <a:ext cx="128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963520" y="4595760"/>
            <a:ext cx="103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90360" y="5543640"/>
            <a:ext cx="21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est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42360" y="6386400"/>
            <a:ext cx="31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Office of Management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014720" y="2119320"/>
            <a:ext cx="335592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4014720" y="3249720"/>
            <a:ext cx="200664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4014720" y="4379760"/>
            <a:ext cx="2454480" cy="881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4014720" y="5484960"/>
            <a:ext cx="85896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7420320" y="22575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6050520" y="3398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6518520" y="45403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4920120" y="5614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3"/>
          <p:cNvGrpSpPr/>
          <p:nvPr/>
        </p:nvGrpSpPr>
        <p:grpSpPr>
          <a:xfrm>
            <a:off x="3992400" y="2006640"/>
            <a:ext cx="4770720" cy="4460760"/>
            <a:chOff x="3992400" y="2006640"/>
            <a:chExt cx="4770720" cy="4460760"/>
          </a:xfrm>
        </p:grpSpPr>
        <p:sp>
          <p:nvSpPr>
            <p:cNvPr id="368" name="Line 21"/>
            <p:cNvSpPr/>
            <p:nvPr/>
          </p:nvSpPr>
          <p:spPr>
            <a:xfrm>
              <a:off x="3992400" y="2017800"/>
              <a:ext cx="47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4003560" y="2006640"/>
              <a:ext cx="0" cy="446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24"/>
          <p:cNvSpPr/>
          <p:nvPr/>
        </p:nvSpPr>
        <p:spPr>
          <a:xfrm>
            <a:off x="1022760" y="1220760"/>
            <a:ext cx="77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age of total expenditure ($2,731 billion)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53400" y="65721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78B2DE8-E079-45BA-B654-C4D3734D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Tax Reven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3896280" y="165564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279520" y="209088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879280" y="2998800"/>
            <a:ext cx="111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968120" y="3895560"/>
            <a:ext cx="20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2932200" y="4776840"/>
            <a:ext cx="106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742360" y="6386400"/>
            <a:ext cx="31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Office of Management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014720" y="2119320"/>
            <a:ext cx="408168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14720" y="3027240"/>
            <a:ext cx="354492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014720" y="3935520"/>
            <a:ext cx="146052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4014720" y="4807080"/>
            <a:ext cx="40176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8096760" y="2206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7593480" y="3114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4420080" y="49118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4561200" y="577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8"/>
          <p:cNvGrpSpPr/>
          <p:nvPr/>
        </p:nvGrpSpPr>
        <p:grpSpPr>
          <a:xfrm>
            <a:off x="3992400" y="2006640"/>
            <a:ext cx="4770720" cy="4460760"/>
            <a:chOff x="3992400" y="2006640"/>
            <a:chExt cx="4770720" cy="4460760"/>
          </a:xfrm>
        </p:grpSpPr>
        <p:sp>
          <p:nvSpPr>
            <p:cNvPr id="388" name="Line 19"/>
            <p:cNvSpPr/>
            <p:nvPr/>
          </p:nvSpPr>
          <p:spPr>
            <a:xfrm>
              <a:off x="3992400" y="2017800"/>
              <a:ext cx="47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4003560" y="2006640"/>
              <a:ext cx="0" cy="446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21"/>
          <p:cNvSpPr/>
          <p:nvPr/>
        </p:nvSpPr>
        <p:spPr>
          <a:xfrm>
            <a:off x="4022640" y="5681520"/>
            <a:ext cx="55728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063600" y="5651640"/>
            <a:ext cx="9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512320" y="40114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1236960" y="123336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of total tax revenue ($2,568 billion)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4"/>
          <p:cNvSpPr/>
          <p:nvPr/>
        </p:nvSpPr>
        <p:spPr>
          <a:xfrm>
            <a:off x="691524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C1D2CDB-1F9C-4BCD-AC28-29085E08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0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ncome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43000" y="1409400"/>
            <a:ext cx="7734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ive tax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ckets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tax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tax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F2A2D20-0B58-41A2-86A4-4DA46D50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5" dur="1" fill="hold"/>
                                  <p:tgtEl>
                                    <p:spTgt spid="3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98720" y="1265400"/>
            <a:ext cx="80452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&amp; Excise Taxes (4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 Income Taxes (3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e Income Tax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License Fees (1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27FC25F-3C4B-41BA-B4CD-1A479179D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229" dur="1" fill="hold"/>
                                  <p:tgtEl>
                                    <p:spTgt spid="3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12480" y="123948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xpendi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(36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Welfare (2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&amp; Hospitals (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ways (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afety (4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(1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8E47890-21F2-4B3D-B5F3-9B593A60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5" dur="1" fill="hold"/>
                                  <p:tgtEl>
                                    <p:spTgt spid="4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20240" y="1285560"/>
            <a:ext cx="8123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ty Taxes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7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&amp; Excise Tax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xpendi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fare, Health &amp; Hospitals 1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afety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ing, Parks, &amp; Sewer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eets &amp; Highway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C66F004-A49F-4338-B61C-F69D6BB5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0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indefinite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2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2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8" dur="2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0" dur="2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2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20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ng Social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39600" y="1314360"/>
            <a:ext cx="8001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run shortfall in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-as-you-go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st fund withdraw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st fund exhausted in 20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 reducti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x revenue incre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CE95D82-07E2-47B8-991F-A2288E4D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0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4" dur="1" fill="hold"/>
                                  <p:tgtEl>
                                    <p:spTgt spid="4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ng Social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41120" y="1409400"/>
            <a:ext cx="708660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 &amp; bond inves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roll tax 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ly directed accou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tely owned and managed accou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nsus diffic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BA6EA1D-B97A-4199-A651-884A0D91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5" dur="1" fill="hold"/>
                                  <p:tgtEl>
                                    <p:spTgt spid="4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1725480" y="781200"/>
            <a:ext cx="710892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8720" y="1250640"/>
            <a:ext cx="45561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distribution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distribution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bl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durabl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-agent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66880" y="1276200"/>
            <a:ext cx="37767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xter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-rider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si-public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purc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 pay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ginal tax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tax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es and excise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F8FC59C2-0FB6-4BC7-A6B5-C19FBE54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0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011320" y="2103480"/>
            <a:ext cx="598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in the Global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E0A49B3-A6FB-49BF-A82E-F1F780261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0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312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hold In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9600" y="1533240"/>
            <a:ext cx="79498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distribution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ge, rent, interest, pro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tribu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sion among households by quint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8546605-C234-4E02-851F-D1DF4BE8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istribution of Income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287880" y="2349360"/>
            <a:ext cx="542448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37680" y="2424240"/>
            <a:ext cx="10936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313000" y="340524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228040" y="4262400"/>
            <a:ext cx="912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024280" y="5024520"/>
            <a:ext cx="1329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rieto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110320" y="5900760"/>
            <a:ext cx="1148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 rot="16200000">
            <a:off x="124920" y="39477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ome By Function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287880" y="3216240"/>
            <a:ext cx="11412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287880" y="4083120"/>
            <a:ext cx="3492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3287880" y="4950000"/>
            <a:ext cx="666720" cy="637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287880" y="5816520"/>
            <a:ext cx="10476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765600" y="16765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tional Income Received (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112560" y="1916280"/>
            <a:ext cx="56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10        20        30        40        50        60   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3314520" y="2413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3400560" y="3289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724560" y="4146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048560" y="5013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4419360" y="58705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3144960" y="2260440"/>
            <a:ext cx="55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6438600" y="637704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Bureau of Economi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877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CD7B14E-F10F-476C-9BA4-41602780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0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istribution of Incom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87880" y="2349360"/>
            <a:ext cx="28548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304720" y="2405160"/>
            <a:ext cx="968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86000" y="3271680"/>
            <a:ext cx="1006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336040" y="4138560"/>
            <a:ext cx="906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336040" y="5005440"/>
            <a:ext cx="906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279880" y="5872320"/>
            <a:ext cx="101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 rot="16200000">
            <a:off x="395280" y="40017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ome Group (Househol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3287880" y="3216240"/>
            <a:ext cx="57456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3287880" y="4083120"/>
            <a:ext cx="117144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3287880" y="4950000"/>
            <a:ext cx="1941480" cy="637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287880" y="5816520"/>
            <a:ext cx="41400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632760" y="16765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onal Income Received (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121920" y="191628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 10         20         30         40         50      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657960" y="2413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3909600" y="32893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501080" y="41464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301000" y="5003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7406280" y="58705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3144960" y="2260440"/>
            <a:ext cx="516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942600" y="639612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Bureau of the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6896160" y="65721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874E0E9-8C4F-4402-9E90-4E6CCB5D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holds as S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s of household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taxes (13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saving (1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consumption (86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rables (11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durables (29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 (6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DD236E1-97B0-47AE-9933-1CDD39FA1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1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siness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44160" y="138420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ant fi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ically integ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lome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F8A4E84-C7B9-4B3D-9C02-1C5A40C4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17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Outp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461320" y="61326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age of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710320" y="613260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age of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598840" y="3228840"/>
            <a:ext cx="2198520" cy="61776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598840" y="3848040"/>
            <a:ext cx="2198520" cy="39060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598840" y="4233960"/>
            <a:ext cx="2198520" cy="182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684760" y="3228840"/>
            <a:ext cx="2198880" cy="20653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684760" y="5295960"/>
            <a:ext cx="2198880" cy="4618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684760" y="5754600"/>
            <a:ext cx="2198880" cy="308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5739840" y="573732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e Proprieto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6139440" y="5365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111360" y="403236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633400" y="494496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e Proprieto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008880" y="38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2936520" y="336060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1959840" y="49449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086560" y="3887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959840" y="3325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982640" y="573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7855560" y="5335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7855560" y="4011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6962400" y="637704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Census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5"/>
          <p:cNvSpPr/>
          <p:nvPr/>
        </p:nvSpPr>
        <p:spPr>
          <a:xfrm>
            <a:off x="1117440" y="1219320"/>
            <a:ext cx="5448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915240" y="65721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F375344F-DBA3-468B-9388-E92DE24B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Corp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06000" y="1386000"/>
            <a:ext cx="7086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ring of speci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limited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CEF878C-B5E7-47C6-940E-FE61A502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0" dur="1" fill="hold"/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9:33:27Z</dcterms:created>
  <dc:creator>C. Norman Hollingsworth</dc:creator>
  <dc:description/>
  <dc:language>en-US</dc:language>
  <cp:lastModifiedBy>test</cp:lastModifiedBy>
  <dcterms:modified xsi:type="dcterms:W3CDTF">2012-11-07T14:58:02Z</dcterms:modified>
  <cp:revision>181</cp:revision>
  <dc:subject>McConnell-Brue Economics</dc:subject>
  <dc:title>Chapter 4</dc:title>
</cp:coreProperties>
</file>